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714-42A0-4DE1-9B1A-A117F084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332-C5FF-4572-9C5F-22FF49F2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379-0D49-4B2A-AC60-CEDBF89E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801-37FC-42CE-9FA4-D7EFC64C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32BF-F92B-4CDA-99EB-1945B6E6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90D1-939C-4360-8E6F-99D332CE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B517-CCB0-4BC6-A396-8036544E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FBB9-4D2D-403F-92C7-69D2FD54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CDA1-C57D-4DB9-8A35-62198771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9B53-5C3E-473E-94BE-B93453C0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2679-D2D0-40EC-B201-9F7ECB37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6CA-3EFA-4B5A-86CE-4BDAFA48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902C-1113-4C72-B75B-A5414965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8BF3-B34D-4AD8-9318-1BA4265C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B4E0-A28B-4536-A87B-65E59E4A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9914-22A3-42C1-9A14-F76047AF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3EE6-71B1-4A26-ADE4-BDD1D29D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A20-070B-4D60-BAAF-1CB2EE7E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6AF-B026-4173-98E1-2072B4E2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E9A-54A9-412F-9179-F52B7EBB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752-398E-4FD7-84F6-F1CDAACB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213-4AFA-4ADC-9D7D-33BC58F9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7FD-DB15-451F-A77F-23552820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4F8-36FE-43F6-ABB1-A78B8217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4A11-0ADC-4340-A82A-D52676E18CFD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236E-A59B-41E3-99EC-CF592BD1DB12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97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Zarys wiedzy o gospodar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cecff"/>
                </a:solidFill>
                <a:latin typeface="Tahoma"/>
              </a:rPr>
              <a:t>Scenariusz zajęć w kl. III TZ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7" name="BD04972_" descr=""/>
          <p:cNvPicPr/>
          <p:nvPr/>
        </p:nvPicPr>
        <p:blipFill>
          <a:blip r:embed="rId2"/>
          <a:stretch/>
        </p:blipFill>
        <p:spPr>
          <a:xfrm>
            <a:off x="2971800" y="4267080"/>
            <a:ext cx="29242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Realizacja c.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uczeń wyjaśnia pojęcie „rotacj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nauczyciel poleca przeanalizowanie planszy nr 2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uczniowie wymieniają etapy i następstwa rotac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zapisanie na tablicy cyklów obrotowych w różnorodnej działalności gospodarcze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Cykle obrotowe w działalnośc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2400" cy="22860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zemysłowe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-M-Pr-W-P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ługowe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-M-Pr-P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ndlowe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-T-P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BD04956_" descr=""/>
          <p:cNvPicPr/>
          <p:nvPr/>
        </p:nvPicPr>
        <p:blipFill>
          <a:blip r:embed="rId2"/>
          <a:stretch/>
        </p:blipFill>
        <p:spPr>
          <a:xfrm>
            <a:off x="2590920" y="3581280"/>
            <a:ext cx="45748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Podsumowan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nauczyciel zwraca uwagę co należy zapamiętać, prosząc poszczególnych uczniów o przypomnienie oczym rozmawiano na zajęci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E01605_" descr=""/>
          <p:cNvPicPr/>
          <p:nvPr/>
        </p:nvPicPr>
        <p:blipFill>
          <a:blip r:embed="rId2"/>
          <a:stretch/>
        </p:blipFill>
        <p:spPr>
          <a:xfrm>
            <a:off x="2666880" y="3898800"/>
            <a:ext cx="45831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Zadanie domow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krzyżówka „Środki obrotow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Ewaluacja zajęć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3760" y="2583360"/>
            <a:ext cx="5496480" cy="29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każdy uczeń otrzymuje po 3 „cenki”, które przykleja na plakacie „Smily”, odpowiadając na pytan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czy temat był interesują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czy nowe treści zrozumiał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czy atmosfera na lekcji była dobr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ff"/>
                </a:solidFill>
                <a:latin typeface="Tahoma"/>
              </a:rPr>
              <a:t>Autor:Janina Kobierzyńska, nauczyciel Zespołu Szkół w Zdzieszowicach,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2" name="PE01616_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6975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Cele lekcj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Uczeń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zna pojęcie majątku obrotowego 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umie rozróżnić postacie tego majątku,krótko je scharakteryzować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posługuje się pojęciami dotyczącymi środków gospodarczy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rozumie wpływ szybkości krążenia środków na efektywność dział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ffff"/>
                </a:solidFill>
                <a:latin typeface="Tahoma"/>
              </a:rPr>
              <a:t>Kompetencje     Kluczowe   pojęci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oszukiwanie, selekcja i wykorzystywanie informacji z różnych źróde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stosowanie zdobytej wiedzy w prakty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majątek obrotow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rotacja środków obrotowyc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papiery wartościow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BS00508_" descr=""/>
          <p:cNvPicPr/>
          <p:nvPr/>
        </p:nvPicPr>
        <p:blipFill>
          <a:blip r:embed="rId2"/>
          <a:stretch/>
        </p:blipFill>
        <p:spPr>
          <a:xfrm>
            <a:off x="4800600" y="495288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Materiały pomocnicz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-plansza nr 1 „Składniki majątku obrotowego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-plansza 2 „Rotacja środków obrotowych w działalności przemysłowej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-krzyżówka –” Środki obrotow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-odbitki obligacji, weks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-słownik ekonomiki i organizacji przedsiębiorst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-podręcznik do zarysu wiedzy o gospodarc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-wycinki prasowe, plakat ewaluacyjny, „cenki”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Metody              Form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rozmowa dydaktyczn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elementy wykła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praca z tek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praca z całą klas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praca indywidual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praca w grup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Czas lekcji: 45 m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E01832_" descr=""/>
          <p:cNvPicPr/>
          <p:nvPr/>
        </p:nvPicPr>
        <p:blipFill>
          <a:blip r:embed="rId2"/>
          <a:stretch/>
        </p:blipFill>
        <p:spPr>
          <a:xfrm>
            <a:off x="1523880" y="4114800"/>
            <a:ext cx="27450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Przebieg lekcj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prowadzen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nauczyciel czyta wycinek prasowy z „Gazety Wyborczej”- ogłoszenie Min.Fin. W sprawie obligac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zapoznaje uczniów z celami lekcji, wyjaśniając, że zajęcia będą dotyczyły majątku obrotoweg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 przypomnienie źródeł pochodzenia majątku, kryteriów klasyfikacji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 wypowiadają się poszczególni uczniowie,    wykorzystując planszę nr 1, przypominają składniki i cechy majątku trwałe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Realizacja temat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nauczyciel prosi uczniów, aby spróbowali sformułować temat i zagadnienia do lekcji- różne propozyc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po uzgodnieniu – zapis na tabli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lasyfikacja majątku obrotowego przedsiębiorstw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1. Postacie mająt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2.Rotacja środków obrotowych w różnych podmiotach gospodarcz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Realizacja temat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 uczniowie analizują planszę nr 1, wymieniają postacie majątku obrotow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podział klasy na grupy wg „odlicz do 3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-zespoły wykorzystują różne źródła informacji poznają cechy składników majątku obrotow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ff"/>
                </a:solidFill>
                <a:latin typeface="Tahoma"/>
              </a:rPr>
              <a:t>Realizacja  tematu c.d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liderzy zespołów zdają relac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”jedynki”- o rzeczowych składnik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”dwójki”- o środkach pieniężnych i papierach wartościow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-”trójki”- o należnościach                               i roszczeniach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E01561_" descr=""/>
          <p:cNvPicPr/>
          <p:nvPr/>
        </p:nvPicPr>
        <p:blipFill>
          <a:blip r:embed="rId2"/>
          <a:stretch/>
        </p:blipFill>
        <p:spPr>
          <a:xfrm>
            <a:off x="4560840" y="403848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7:55:33Z</dcterms:created>
  <dc:creator>MEN</dc:creator>
  <dc:description/>
  <dc:language>en-US</dc:language>
  <cp:lastModifiedBy>MEN</cp:lastModifiedBy>
  <dcterms:modified xsi:type="dcterms:W3CDTF">2002-01-11T11:45:11Z</dcterms:modified>
  <cp:revision>11</cp:revision>
  <dc:subject/>
  <dc:title>Zarys wiedzy o gospodarce</dc:title>
</cp:coreProperties>
</file>